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0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1" descr="图片1000"/>
          <p:cNvPicPr/>
          <p:nvPr/>
        </p:nvPicPr>
        <p:blipFill>
          <a:blip r:embed="rId3"/>
          <a:stretch/>
        </p:blipFill>
        <p:spPr>
          <a:xfrm>
            <a:off x="3457440" y="739800"/>
            <a:ext cx="4810320" cy="28584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/>
          <p:cNvSpPr/>
          <p:nvPr/>
        </p:nvSpPr>
        <p:spPr>
          <a:xfrm>
            <a:off x="3510000" y="773280"/>
            <a:ext cx="1062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/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/>
          <p:cNvSpPr/>
          <p:nvPr/>
        </p:nvSpPr>
        <p:spPr>
          <a:xfrm>
            <a:off x="4608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矩形 536665"/>
          <p:cNvSpPr/>
          <p:nvPr/>
        </p:nvSpPr>
        <p:spPr>
          <a:xfrm>
            <a:off x="5724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矩形 536666"/>
          <p:cNvSpPr/>
          <p:nvPr/>
        </p:nvSpPr>
        <p:spPr>
          <a:xfrm>
            <a:off x="6840360" y="773280"/>
            <a:ext cx="8794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68675"/>
          <p:cNvSpPr/>
          <p:nvPr/>
        </p:nvSpPr>
        <p:spPr>
          <a:xfrm>
            <a:off x="1101600" y="1445760"/>
            <a:ext cx="6940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六   正比例和反比例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认识成正比例的量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025025"/>
          <p:cNvSpPr/>
          <p:nvPr/>
        </p:nvSpPr>
        <p:spPr>
          <a:xfrm>
            <a:off x="254160" y="187956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公式法巧解正比例问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判断下面各题中的两种量是否成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长方形的面积一定，长方形的长和宽。（   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人的年龄和身高。（   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正方体的体积和底面积。（   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三角形的底一定，三角形的面积和高。（   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1050625"/>
          <p:cNvSpPr/>
          <p:nvPr/>
        </p:nvSpPr>
        <p:spPr>
          <a:xfrm>
            <a:off x="174600" y="109872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不成比例。由长方形的面积公式：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S=ab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，可知长方形的长和宽是相乘的关系，不能写成比的形式，所以不成正比例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不成比例。人的年龄和身高没有一定的公式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不成比例。由正方体的体积公式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V=Sh,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可知  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S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，而正方体的高也就是棱长不是定值，所以不成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）成正比例。由三角形的面积公式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S=  ah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，可知      （一定），三角形的面积和高可以写成相比的形式，比值一定，所以成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18" name="对象 1050626"/>
          <p:cNvGraphicFramePr/>
          <p:nvPr/>
        </p:nvGraphicFramePr>
        <p:xfrm>
          <a:off x="6181560" y="3176640"/>
          <a:ext cx="2667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对象 10506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1560" y="3176640"/>
                    <a:ext cx="266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对象 1050627"/>
          <p:cNvGraphicFramePr/>
          <p:nvPr/>
        </p:nvGraphicFramePr>
        <p:xfrm>
          <a:off x="5219640" y="4178160"/>
          <a:ext cx="2034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对象 10506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17816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对象 1050628"/>
          <p:cNvGraphicFramePr/>
          <p:nvPr/>
        </p:nvGraphicFramePr>
        <p:xfrm>
          <a:off x="6697800" y="4179960"/>
          <a:ext cx="7873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对象 10506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97800" y="4179960"/>
                    <a:ext cx="787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051649"/>
          <p:cNvSpPr/>
          <p:nvPr/>
        </p:nvSpPr>
        <p:spPr>
          <a:xfrm>
            <a:off x="254160" y="168912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判断下面各题中的两种量是否成正比例，并说出原因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工作总量一定，工作效率和工作时间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不成正比例，工作效率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工作时间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工作总量（一定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例尺一定，图上距离和实际距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成正比例，        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比例尺（一定）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25" name="对象 1051650"/>
          <p:cNvGraphicFramePr/>
          <p:nvPr/>
        </p:nvGraphicFramePr>
        <p:xfrm>
          <a:off x="1668600" y="4270320"/>
          <a:ext cx="109224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对象 10516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4270320"/>
                    <a:ext cx="1092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027073"/>
          <p:cNvSpPr/>
          <p:nvPr/>
        </p:nvSpPr>
        <p:spPr>
          <a:xfrm>
            <a:off x="263520" y="2120760"/>
            <a:ext cx="862020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分数值的大小一定，它的分子和分母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成正比例，    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分数值（一定）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正方体的棱长和体积成正比例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不成正比例，           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棱长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棱长（不一定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28" name="对象 1027076"/>
          <p:cNvGraphicFramePr/>
          <p:nvPr/>
        </p:nvGraphicFramePr>
        <p:xfrm>
          <a:off x="1668600" y="2771640"/>
          <a:ext cx="58392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对象 10270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2771640"/>
                    <a:ext cx="5839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对象 1027077"/>
          <p:cNvGraphicFramePr/>
          <p:nvPr/>
        </p:nvGraphicFramePr>
        <p:xfrm>
          <a:off x="1943280" y="3952800"/>
          <a:ext cx="15872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对象 102707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3280" y="3952800"/>
                    <a:ext cx="1587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014785"/>
          <p:cNvSpPr/>
          <p:nvPr/>
        </p:nvSpPr>
        <p:spPr>
          <a:xfrm>
            <a:off x="254160" y="1919160"/>
            <a:ext cx="93772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两种（       ）的量，一种量变化，另一种量也随着变化，当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两种量的（     ）一定时，这两个量就成（       ）关系，这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两个量是（             ）。如果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表示两种相关联的量，用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表示它们的比值，正比例关系可以用式子（         ）来表示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文本框 1014802"/>
          <p:cNvSpPr/>
          <p:nvPr/>
        </p:nvSpPr>
        <p:spPr>
          <a:xfrm>
            <a:off x="2046600" y="2883240"/>
            <a:ext cx="68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相关联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文本框 1014803"/>
          <p:cNvSpPr/>
          <p:nvPr/>
        </p:nvSpPr>
        <p:spPr>
          <a:xfrm>
            <a:off x="2129760" y="3391200"/>
            <a:ext cx="515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比值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文本框 1014804"/>
          <p:cNvSpPr/>
          <p:nvPr/>
        </p:nvSpPr>
        <p:spPr>
          <a:xfrm>
            <a:off x="6262920" y="3391200"/>
            <a:ext cx="68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比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文本框 1014805"/>
          <p:cNvSpPr/>
          <p:nvPr/>
        </p:nvSpPr>
        <p:spPr>
          <a:xfrm>
            <a:off x="2080080" y="3886560"/>
            <a:ext cx="1186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成正比例的量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37" name="对象 1014806"/>
          <p:cNvGraphicFramePr/>
          <p:nvPr/>
        </p:nvGraphicFramePr>
        <p:xfrm>
          <a:off x="5826240" y="4494240"/>
          <a:ext cx="13078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对象 101480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6240" y="4494240"/>
                    <a:ext cx="1307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015809"/>
          <p:cNvSpPr/>
          <p:nvPr/>
        </p:nvSpPr>
        <p:spPr>
          <a:xfrm>
            <a:off x="254160" y="1384200"/>
            <a:ext cx="932796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是张老师打字的时间和字数统计表，根据要求填空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表中（     ）和（       ）是相关联的量，（       ）随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）的变化而变化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表中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组这两种量相对应两个数的比值是（   ），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组两种量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相对应两个数的比值是（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49480" y="2087640"/>
          <a:ext cx="6664320" cy="857160"/>
        </p:xfrm>
        <a:graphic>
          <a:graphicData uri="http://schemas.openxmlformats.org/drawingml/2006/table">
            <a:tbl>
              <a:tblPr/>
              <a:tblGrid>
                <a:gridCol w="1449360"/>
                <a:gridCol w="1042920"/>
                <a:gridCol w="1042920"/>
                <a:gridCol w="1042920"/>
                <a:gridCol w="1042920"/>
                <a:gridCol w="104328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字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文本框 1015902"/>
          <p:cNvSpPr/>
          <p:nvPr/>
        </p:nvSpPr>
        <p:spPr>
          <a:xfrm>
            <a:off x="1306440" y="2895840"/>
            <a:ext cx="1044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时间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文本框 1015903"/>
          <p:cNvSpPr/>
          <p:nvPr/>
        </p:nvSpPr>
        <p:spPr>
          <a:xfrm>
            <a:off x="2797200" y="2895840"/>
            <a:ext cx="144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总字数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文本框 1015904"/>
          <p:cNvSpPr/>
          <p:nvPr/>
        </p:nvSpPr>
        <p:spPr>
          <a:xfrm>
            <a:off x="6315120" y="2895840"/>
            <a:ext cx="144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总字数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文本框 1015905"/>
          <p:cNvSpPr/>
          <p:nvPr/>
        </p:nvSpPr>
        <p:spPr>
          <a:xfrm>
            <a:off x="455760" y="3391200"/>
            <a:ext cx="1044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时间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文本框 1015906"/>
          <p:cNvSpPr/>
          <p:nvPr/>
        </p:nvSpPr>
        <p:spPr>
          <a:xfrm>
            <a:off x="5991120" y="3899160"/>
            <a:ext cx="654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文本框 1015907"/>
          <p:cNvSpPr/>
          <p:nvPr/>
        </p:nvSpPr>
        <p:spPr>
          <a:xfrm>
            <a:off x="3324240" y="4394520"/>
            <a:ext cx="654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031169"/>
          <p:cNvSpPr/>
          <p:nvPr/>
        </p:nvSpPr>
        <p:spPr>
          <a:xfrm>
            <a:off x="214200" y="2158920"/>
            <a:ext cx="8620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式子表示这两个量之间的关系是（             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两个量（   ）正比例关系。（填“成”或“不成”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48" name="对象 1031173"/>
          <p:cNvGraphicFramePr/>
          <p:nvPr/>
        </p:nvGraphicFramePr>
        <p:xfrm>
          <a:off x="5111640" y="2197080"/>
          <a:ext cx="279396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对象 10311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1640" y="2197080"/>
                    <a:ext cx="279396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文本框 1031174"/>
          <p:cNvSpPr/>
          <p:nvPr/>
        </p:nvSpPr>
        <p:spPr>
          <a:xfrm>
            <a:off x="1744560" y="2743560"/>
            <a:ext cx="91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成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1030145"/>
          <p:cNvSpPr/>
          <p:nvPr/>
        </p:nvSpPr>
        <p:spPr>
          <a:xfrm>
            <a:off x="254160" y="133992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判断下面的量是不是成正比例关系，并说明理由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除数一定，被除数和商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除数（一定），成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长方形的周长一定，长方形的长和宽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长方形的长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宽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长方形的周长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÷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一定），不是相比的关系，不成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因数一定，积和另一个因数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另一个因数（一定），成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52" name="对象 1030150"/>
          <p:cNvGraphicFramePr/>
          <p:nvPr/>
        </p:nvGraphicFramePr>
        <p:xfrm>
          <a:off x="398520" y="2422440"/>
          <a:ext cx="8380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对象 1030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2422440"/>
                    <a:ext cx="838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对象 1030151"/>
          <p:cNvGraphicFramePr/>
          <p:nvPr/>
        </p:nvGraphicFramePr>
        <p:xfrm>
          <a:off x="444600" y="4925880"/>
          <a:ext cx="110484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对象 10301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600" y="4925880"/>
                    <a:ext cx="11048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1028097"/>
          <p:cNvSpPr/>
          <p:nvPr/>
        </p:nvSpPr>
        <p:spPr>
          <a:xfrm>
            <a:off x="195120" y="144144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某车间加工的零件个数与所用的时间如下表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55760" y="2739960"/>
          <a:ext cx="6453000" cy="857160"/>
        </p:xfrm>
        <a:graphic>
          <a:graphicData uri="http://schemas.openxmlformats.org/drawingml/2006/table">
            <a:tbl>
              <a:tblPr/>
              <a:tblGrid>
                <a:gridCol w="1449360"/>
                <a:gridCol w="1251000"/>
                <a:gridCol w="1251000"/>
                <a:gridCol w="1251000"/>
                <a:gridCol w="125064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个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043457"/>
          <p:cNvSpPr/>
          <p:nvPr/>
        </p:nvSpPr>
        <p:spPr>
          <a:xfrm>
            <a:off x="195120" y="120816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根据表中的数据，在下图中描出时间和加工零件总个数的对应点，再把这些点按顺序连起来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59" name="图片 1043461" descr=""/>
          <p:cNvPicPr/>
          <p:nvPr/>
        </p:nvPicPr>
        <p:blipFill>
          <a:blip r:embed="rId1"/>
          <a:stretch/>
        </p:blipFill>
        <p:spPr>
          <a:xfrm>
            <a:off x="2793960" y="2571840"/>
            <a:ext cx="3232080" cy="2863800"/>
          </a:xfrm>
          <a:prstGeom prst="rect">
            <a:avLst/>
          </a:prstGeom>
          <a:ln w="0">
            <a:noFill/>
          </a:ln>
        </p:spPr>
      </p:pic>
      <p:sp>
        <p:nvSpPr>
          <p:cNvPr id="160" name="直接连接符 1043462"/>
          <p:cNvSpPr/>
          <p:nvPr/>
        </p:nvSpPr>
        <p:spPr>
          <a:xfrm flipV="1">
            <a:off x="3382920" y="3155760"/>
            <a:ext cx="1770120" cy="181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77000"/>
          <p:cNvSpPr/>
          <p:nvPr/>
        </p:nvSpPr>
        <p:spPr>
          <a:xfrm>
            <a:off x="254160" y="1816200"/>
            <a:ext cx="8619840" cy="20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成正比例的两种量的（     ）是一定的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一定）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）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文本框 377030"/>
          <p:cNvSpPr/>
          <p:nvPr/>
        </p:nvSpPr>
        <p:spPr>
          <a:xfrm>
            <a:off x="3693960" y="2743560"/>
            <a:ext cx="1044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比值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85" name="对象 377031"/>
          <p:cNvGraphicFramePr/>
          <p:nvPr/>
        </p:nvGraphicFramePr>
        <p:xfrm>
          <a:off x="1025640" y="3382920"/>
          <a:ext cx="2156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对象 377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3382920"/>
                    <a:ext cx="215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文本框 377032"/>
          <p:cNvSpPr/>
          <p:nvPr/>
        </p:nvSpPr>
        <p:spPr>
          <a:xfrm>
            <a:off x="3914640" y="3251520"/>
            <a:ext cx="144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比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044481"/>
          <p:cNvSpPr/>
          <p:nvPr/>
        </p:nvSpPr>
        <p:spPr>
          <a:xfrm>
            <a:off x="195120" y="182556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表中的两个量成（   ）比例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根据图像判断，这个车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时能加工多少个零件？加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6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零件需要多少小时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根据图像判断，这个车间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小时能加工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个零件，加工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个零件需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小时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文本框 1044482"/>
          <p:cNvSpPr/>
          <p:nvPr/>
        </p:nvSpPr>
        <p:spPr>
          <a:xfrm>
            <a:off x="3274560" y="177840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045505"/>
          <p:cNvSpPr/>
          <p:nvPr/>
        </p:nvSpPr>
        <p:spPr>
          <a:xfrm>
            <a:off x="195120" y="144144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图是甲、乙两车的行程情况，看图回答问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64" name="组合 1045508"/>
          <p:cNvGrpSpPr/>
          <p:nvPr/>
        </p:nvGrpSpPr>
        <p:grpSpPr>
          <a:xfrm>
            <a:off x="2719440" y="2682720"/>
            <a:ext cx="3703680" cy="2679840"/>
            <a:chOff x="2719440" y="2682720"/>
            <a:chExt cx="3703680" cy="2679840"/>
          </a:xfrm>
        </p:grpSpPr>
        <p:sp>
          <p:nvSpPr>
            <p:cNvPr id="165" name="矩形 1045507"/>
            <p:cNvSpPr/>
            <p:nvPr/>
          </p:nvSpPr>
          <p:spPr>
            <a:xfrm>
              <a:off x="2719440" y="2682720"/>
              <a:ext cx="3695760" cy="26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66" name="图片 1045509" descr=""/>
            <p:cNvPicPr/>
            <p:nvPr/>
          </p:nvPicPr>
          <p:blipFill>
            <a:blip r:embed="rId1"/>
            <a:stretch/>
          </p:blipFill>
          <p:spPr>
            <a:xfrm>
              <a:off x="2719440" y="2682720"/>
              <a:ext cx="3703680" cy="267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052673"/>
          <p:cNvSpPr/>
          <p:nvPr/>
        </p:nvSpPr>
        <p:spPr>
          <a:xfrm>
            <a:off x="195120" y="171756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甲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钟行（   ）千米。乙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钟行（  ）千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甲车所行路程与时间成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例关系，乙车所行路程与时间成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例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从图上看，甲车和乙车相比，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车跑得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文本框 1052674"/>
          <p:cNvSpPr/>
          <p:nvPr/>
        </p:nvSpPr>
        <p:spPr>
          <a:xfrm>
            <a:off x="2489040" y="1676880"/>
            <a:ext cx="800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文本框 1052675"/>
          <p:cNvSpPr/>
          <p:nvPr/>
        </p:nvSpPr>
        <p:spPr>
          <a:xfrm>
            <a:off x="5778360" y="1676880"/>
            <a:ext cx="5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0" name="文本框 1052676"/>
          <p:cNvSpPr/>
          <p:nvPr/>
        </p:nvSpPr>
        <p:spPr>
          <a:xfrm>
            <a:off x="3886200" y="2172240"/>
            <a:ext cx="800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文本框 1052677"/>
          <p:cNvSpPr/>
          <p:nvPr/>
        </p:nvSpPr>
        <p:spPr>
          <a:xfrm>
            <a:off x="660240" y="2680200"/>
            <a:ext cx="800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文本框 1052678"/>
          <p:cNvSpPr/>
          <p:nvPr/>
        </p:nvSpPr>
        <p:spPr>
          <a:xfrm>
            <a:off x="4737240" y="3188160"/>
            <a:ext cx="79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甲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737282"/>
          <p:cNvSpPr/>
          <p:nvPr/>
        </p:nvSpPr>
        <p:spPr>
          <a:xfrm>
            <a:off x="254160" y="156528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文具店卖出足球数量和总价如下表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上表填写完整，说说总价是随着哪个量的变化而变化的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总价随着数量的变化而变化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写出几组相对应的数量的比，并比较比值的大小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60∶1=6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20∶2=6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80∶3=60,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比值相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71640" y="2233440"/>
          <a:ext cx="7513560" cy="857520"/>
        </p:xfrm>
        <a:graphic>
          <a:graphicData uri="http://schemas.openxmlformats.org/drawingml/2006/table">
            <a:tbl>
              <a:tblPr/>
              <a:tblGrid>
                <a:gridCol w="1519200"/>
                <a:gridCol w="745920"/>
                <a:gridCol w="900360"/>
                <a:gridCol w="915840"/>
                <a:gridCol w="885960"/>
                <a:gridCol w="900000"/>
                <a:gridCol w="900000"/>
                <a:gridCol w="74628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量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价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文本框 737431"/>
          <p:cNvSpPr/>
          <p:nvPr/>
        </p:nvSpPr>
        <p:spPr>
          <a:xfrm>
            <a:off x="5033880" y="2467440"/>
            <a:ext cx="905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文本框 737432"/>
          <p:cNvSpPr/>
          <p:nvPr/>
        </p:nvSpPr>
        <p:spPr>
          <a:xfrm>
            <a:off x="5935680" y="2634840"/>
            <a:ext cx="90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文本框 737433"/>
          <p:cNvSpPr/>
          <p:nvPr/>
        </p:nvSpPr>
        <p:spPr>
          <a:xfrm>
            <a:off x="6837480" y="2634840"/>
            <a:ext cx="90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6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046529"/>
          <p:cNvSpPr/>
          <p:nvPr/>
        </p:nvSpPr>
        <p:spPr>
          <a:xfrm>
            <a:off x="254160" y="169848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这个比值表示的意义是什么？你能用式子表示它与总价和数量之间的关系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这个比值表示的意义是单价，    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单价（一定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足球的总价和数量成正比例吗？为什么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成正比例，总价和数量是相关联的两个量，且比值一定，所以成正比例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94" name="对象 1046530"/>
          <p:cNvGraphicFramePr/>
          <p:nvPr/>
        </p:nvGraphicFramePr>
        <p:xfrm>
          <a:off x="3889440" y="2754360"/>
          <a:ext cx="5842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对象 10465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9440" y="2754360"/>
                    <a:ext cx="584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012737"/>
          <p:cNvSpPr/>
          <p:nvPr/>
        </p:nvSpPr>
        <p:spPr>
          <a:xfrm>
            <a:off x="254160" y="169848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订购一份报纸的份数和应付钱数如下表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图中份数和应付钱数是成正比例的量，试着把表格填写完整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6280" y="2400480"/>
          <a:ext cx="8315280" cy="857160"/>
        </p:xfrm>
        <a:graphic>
          <a:graphicData uri="http://schemas.openxmlformats.org/drawingml/2006/table">
            <a:tbl>
              <a:tblPr/>
              <a:tblGrid>
                <a:gridCol w="2627280"/>
                <a:gridCol w="1106640"/>
                <a:gridCol w="915840"/>
                <a:gridCol w="915840"/>
                <a:gridCol w="917640"/>
                <a:gridCol w="916200"/>
                <a:gridCol w="91584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份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应付钱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文本框 1012848"/>
          <p:cNvSpPr/>
          <p:nvPr/>
        </p:nvSpPr>
        <p:spPr>
          <a:xfrm>
            <a:off x="5111640" y="2642040"/>
            <a:ext cx="939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文本框 1012849"/>
          <p:cNvSpPr/>
          <p:nvPr/>
        </p:nvSpPr>
        <p:spPr>
          <a:xfrm>
            <a:off x="6026040" y="2642040"/>
            <a:ext cx="939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文本框 1012850"/>
          <p:cNvSpPr/>
          <p:nvPr/>
        </p:nvSpPr>
        <p:spPr>
          <a:xfrm>
            <a:off x="6940440" y="2642040"/>
            <a:ext cx="939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文本框 1012851"/>
          <p:cNvSpPr/>
          <p:nvPr/>
        </p:nvSpPr>
        <p:spPr>
          <a:xfrm>
            <a:off x="7867800" y="2642040"/>
            <a:ext cx="93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048577"/>
          <p:cNvSpPr/>
          <p:nvPr/>
        </p:nvSpPr>
        <p:spPr>
          <a:xfrm>
            <a:off x="272880" y="125568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图中描出份数和应付钱数所对应的点，再按顺序连接起来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03" name="组合 1048580"/>
          <p:cNvGrpSpPr/>
          <p:nvPr/>
        </p:nvGrpSpPr>
        <p:grpSpPr>
          <a:xfrm>
            <a:off x="2560680" y="1908000"/>
            <a:ext cx="4206960" cy="3700800"/>
            <a:chOff x="2560680" y="1908000"/>
            <a:chExt cx="4206960" cy="3700800"/>
          </a:xfrm>
        </p:grpSpPr>
        <p:sp>
          <p:nvSpPr>
            <p:cNvPr id="104" name="矩形 1048579"/>
            <p:cNvSpPr/>
            <p:nvPr/>
          </p:nvSpPr>
          <p:spPr>
            <a:xfrm>
              <a:off x="2560680" y="1908000"/>
              <a:ext cx="4200840" cy="36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05" name="图片 1048581" descr=""/>
            <p:cNvPicPr/>
            <p:nvPr/>
          </p:nvPicPr>
          <p:blipFill>
            <a:blip r:embed="rId1"/>
            <a:stretch/>
          </p:blipFill>
          <p:spPr>
            <a:xfrm>
              <a:off x="2560680" y="1908000"/>
              <a:ext cx="4206960" cy="370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直接连接符 1048582"/>
          <p:cNvSpPr/>
          <p:nvPr/>
        </p:nvSpPr>
        <p:spPr>
          <a:xfrm flipV="1">
            <a:off x="3273480" y="2379600"/>
            <a:ext cx="2832120" cy="2851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049601"/>
          <p:cNvSpPr/>
          <p:nvPr/>
        </p:nvSpPr>
        <p:spPr>
          <a:xfrm>
            <a:off x="254160" y="200340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根据图像判断，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份报纸需要多少元钱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付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7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元可以买多少份报纸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根据图像判断，买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25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份报纸需要付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2.5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元，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付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7.5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元可以买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35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份报纸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1024001"/>
          <p:cNvSpPr/>
          <p:nvPr/>
        </p:nvSpPr>
        <p:spPr>
          <a:xfrm>
            <a:off x="254160" y="1628640"/>
            <a:ext cx="861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十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59 T2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先分别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: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: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: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比画出正方形放大后的图形，再填写下表。分析观察，正方形的周长与边长成正比例吗？为什么？面积与边长呢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09" name="组合 1024008"/>
          <p:cNvGrpSpPr/>
          <p:nvPr/>
        </p:nvGrpSpPr>
        <p:grpSpPr>
          <a:xfrm>
            <a:off x="28440" y="3695760"/>
            <a:ext cx="8982360" cy="1420920"/>
            <a:chOff x="28440" y="3695760"/>
            <a:chExt cx="8982360" cy="1420920"/>
          </a:xfrm>
        </p:grpSpPr>
        <p:sp>
          <p:nvSpPr>
            <p:cNvPr id="110" name="矩形 1024007"/>
            <p:cNvSpPr/>
            <p:nvPr/>
          </p:nvSpPr>
          <p:spPr>
            <a:xfrm>
              <a:off x="28440" y="3695760"/>
              <a:ext cx="8977680" cy="14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11" name="图片 1024009" descr=""/>
            <p:cNvPicPr/>
            <p:nvPr/>
          </p:nvPicPr>
          <p:blipFill>
            <a:blip r:embed="rId1"/>
            <a:stretch/>
          </p:blipFill>
          <p:spPr>
            <a:xfrm>
              <a:off x="28440" y="3695760"/>
              <a:ext cx="8982360" cy="142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047553"/>
          <p:cNvSpPr/>
          <p:nvPr/>
        </p:nvSpPr>
        <p:spPr>
          <a:xfrm>
            <a:off x="299880" y="122220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方形的周长与边长的比值分别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所以正方形的周长与边长成正比例关系；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方形的面积与边长的比值分别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所以正方形的面积与边长不成正比例关系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13" name="组合 1047556"/>
          <p:cNvGrpSpPr/>
          <p:nvPr/>
        </p:nvGrpSpPr>
        <p:grpSpPr>
          <a:xfrm>
            <a:off x="301680" y="1870200"/>
            <a:ext cx="8756640" cy="1415880"/>
            <a:chOff x="301680" y="1870200"/>
            <a:chExt cx="8756640" cy="1415880"/>
          </a:xfrm>
        </p:grpSpPr>
        <p:sp>
          <p:nvSpPr>
            <p:cNvPr id="114" name="矩形 1047555"/>
            <p:cNvSpPr/>
            <p:nvPr/>
          </p:nvSpPr>
          <p:spPr>
            <a:xfrm>
              <a:off x="301680" y="1870200"/>
              <a:ext cx="875196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15" name="图片 1047557" descr=""/>
            <p:cNvPicPr/>
            <p:nvPr/>
          </p:nvPicPr>
          <p:blipFill>
            <a:blip r:embed="rId1"/>
            <a:stretch/>
          </p:blipFill>
          <p:spPr>
            <a:xfrm>
              <a:off x="301680" y="1870200"/>
              <a:ext cx="8756640" cy="141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49Z</dcterms:created>
  <dc:creator>世纪金榜</dc:creator>
  <dc:description/>
  <dc:language>en-US</dc:language>
  <cp:lastModifiedBy>admin</cp:lastModifiedBy>
  <dcterms:modified xsi:type="dcterms:W3CDTF">2018-01-22T00:37:00Z</dcterms:modified>
  <cp:revision>1322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